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27EF-FB38-4EF5-AF0C-23847B2DB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DB2F-42D5-4A98-9D94-554D07E63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3A42-02B1-414C-9CC2-5EFB9D9FE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C71E-D3C9-4346-A438-49A2BBF1B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D92A-A710-4783-A4BB-CABCBFD19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9ACC-9CCC-4E19-B947-E70D038B0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7C94-3448-477B-9BE2-249DE3869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04C1-4C3C-4862-821E-A3334D3AA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5897-8EED-45F9-8F86-1C5AE6117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1C55-66A2-4670-AD9E-1F10374F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8EB8-9AF2-4ED9-9A94-3E9921743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C0E8-D189-4DEB-929C-64B8C33BC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6860A-3BE3-44FC-8664-04B4DBDFA8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81120"/>
            <a:ext cx="8991360" cy="3686040"/>
          </a:xfrm>
          <a:prstGeom prst="rect">
            <a:avLst/>
          </a:prstGeom>
          <a:noFill/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-132840" y="1697400"/>
            <a:ext cx="8859240" cy="3767040"/>
            <a:chOff x="-132840" y="1697400"/>
            <a:chExt cx="8859240" cy="3767040"/>
          </a:xfrm>
        </p:grpSpPr>
        <p:sp>
          <p:nvSpPr>
            <p:cNvPr id="43" name=""/>
            <p:cNvSpPr/>
            <p:nvPr/>
          </p:nvSpPr>
          <p:spPr>
            <a:xfrm rot="16536000">
              <a:off x="399960" y="2342880"/>
              <a:ext cx="2666880" cy="228600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3" y="11187"/>
                  </a:moveTo>
                  <a:arcTo wR="-9845" hR="-9845" stAng="10664838" swAng="-1632849"/>
                  <a:lnTo>
                    <a:pt x="20203" y="5487"/>
                  </a:lnTo>
                  <a:arcTo wR="10800" hR="10800" stAng="-1768011" swAng="1632849"/>
                  <a:lnTo>
                    <a:pt x="24290" y="10269"/>
                  </a:lnTo>
                  <a:lnTo>
                    <a:pt x="21239" y="13569"/>
                  </a:lnTo>
                  <a:lnTo>
                    <a:pt x="17939" y="10519"/>
                  </a:lnTo>
                  <a:close/>
                </a:path>
              </a:pathLst>
            </a:cu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-132840" y="1697400"/>
              <a:ext cx="3985200" cy="3767040"/>
              <a:chOff x="-132840" y="1697400"/>
              <a:chExt cx="3985200" cy="3767040"/>
            </a:xfrm>
          </p:grpSpPr>
          <p:sp>
            <p:nvSpPr>
              <p:cNvPr id="45" name=""/>
              <p:cNvSpPr/>
              <p:nvPr/>
            </p:nvSpPr>
            <p:spPr>
              <a:xfrm>
                <a:off x="2364840" y="3390840"/>
                <a:ext cx="892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row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1394280" y="4524480"/>
                <a:ext cx="811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Crea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2127600" y="2152800"/>
                <a:ext cx="5464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Edi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363600" y="3552840"/>
                <a:ext cx="668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uil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26200" y="2349360"/>
                <a:ext cx="560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Ru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99880" y="2648160"/>
                <a:ext cx="1171800" cy="186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1370160" y="2940120"/>
                <a:ext cx="8283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With</a:t>
                </a:r>
                <a:br>
                  <a:rPr sz="1700"/>
                </a:b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Power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9235200">
                <a:off x="818640" y="245664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12990600">
                <a:off x="513720" y="260928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21333000">
                <a:off x="209520" y="200052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682600">
                <a:off x="285120" y="230472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3262320" y="1808280"/>
              <a:ext cx="5464080" cy="3044880"/>
              <a:chOff x="3262320" y="1808280"/>
              <a:chExt cx="5464080" cy="3044880"/>
            </a:xfrm>
          </p:grpSpPr>
          <p:sp>
            <p:nvSpPr>
              <p:cNvPr id="57" name=""/>
              <p:cNvSpPr/>
              <p:nvPr/>
            </p:nvSpPr>
            <p:spPr>
              <a:xfrm rot="16200000">
                <a:off x="6289560" y="2416320"/>
                <a:ext cx="3044880" cy="1828800"/>
              </a:xfrm>
              <a:prstGeom prst="can">
                <a:avLst>
                  <a:gd name="adj" fmla="val 1116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838400" y="1808280"/>
                <a:ext cx="2592720" cy="304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16200000">
                <a:off x="2782800" y="2416320"/>
                <a:ext cx="3044880" cy="1828800"/>
              </a:xfrm>
              <a:prstGeom prst="can">
                <a:avLst>
                  <a:gd name="adj" fmla="val 11166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e07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395520" y="1808280"/>
                <a:ext cx="192240" cy="304488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414600" y="2094120"/>
                <a:ext cx="146160" cy="2462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16200000">
                <a:off x="3033720" y="3215880"/>
                <a:ext cx="685800" cy="228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679920" y="3040200"/>
                <a:ext cx="7293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◄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" name=""/>
              <p:cNvGrpSpPr/>
              <p:nvPr/>
            </p:nvGrpSpPr>
            <p:grpSpPr>
              <a:xfrm>
                <a:off x="4248000" y="2381400"/>
                <a:ext cx="2773440" cy="571320"/>
                <a:chOff x="4248000" y="2381400"/>
                <a:chExt cx="2773440" cy="57132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4248000" y="2381400"/>
                  <a:ext cx="2773440" cy="571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 txBox="1"/>
                <p:nvPr/>
              </p:nvSpPr>
              <p:spPr>
                <a:xfrm>
                  <a:off x="4333680" y="2438280"/>
                  <a:ext cx="2590920" cy="457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ff6600"/>
                        </a:solidFill>
                        <a:miter/>
                      </a:ln>
                      <a:solidFill>
                        <a:srgbClr val="cc0000"/>
                      </a:solidFill>
                      <a:latin typeface="Arial Black"/>
                    </a:rPr>
                    <a:t>MASS</a:t>
                  </a:r>
                  <a:endParaRPr b="0" lang="en-US" sz="1800" spc="1" strike="noStrike">
                    <a:ln w="9360">
                      <a:solidFill>
                        <a:srgbClr val="ff6600"/>
                      </a:solidFill>
                      <a:miter/>
                    </a:ln>
                    <a:solidFill>
                      <a:srgbClr val="cc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67" name=""/>
                <p:cNvSpPr txBox="1"/>
                <p:nvPr/>
              </p:nvSpPr>
              <p:spPr>
                <a:xfrm>
                  <a:off x="4410000" y="2571840"/>
                  <a:ext cx="2438280" cy="2858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ffffff"/>
                      </a:solidFill>
                      <a:latin typeface="Bookman Old Style"/>
                    </a:rPr>
                    <a:t>c r i t i c a l</a:t>
                  </a:r>
                  <a:endParaRPr b="1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ffffff"/>
                    </a:solidFill>
                    <a:latin typeface="Bookman Old Style"/>
                    <a:ea typeface="Bookman Old Style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6534000" y="3143520"/>
                <a:ext cx="1856880" cy="1485720"/>
                <a:chOff x="6534000" y="3143520"/>
                <a:chExt cx="1856880" cy="1485720"/>
              </a:xfrm>
            </p:grpSpPr>
            <p:sp>
              <p:nvSpPr>
                <p:cNvPr id="69" name=""/>
                <p:cNvSpPr txBox="1"/>
                <p:nvPr/>
              </p:nvSpPr>
              <p:spPr>
                <a:xfrm>
                  <a:off x="6534000" y="3143520"/>
                  <a:ext cx="122544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m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0" name=""/>
                <p:cNvSpPr txBox="1"/>
                <p:nvPr/>
              </p:nvSpPr>
              <p:spPr>
                <a:xfrm>
                  <a:off x="7629120" y="3143520"/>
                  <a:ext cx="76176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3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600680" y="4370760"/>
                  <a:ext cx="228240" cy="25056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7630560" y="4351680"/>
                  <a:ext cx="341280" cy="0"/>
                </a:xfrm>
                <a:prstGeom prst="line">
                  <a:avLst/>
                </a:prstGeom>
                <a:ln w="1908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 txBox="1"/>
                <p:nvPr/>
              </p:nvSpPr>
              <p:spPr>
                <a:xfrm>
                  <a:off x="6534000" y="4246920"/>
                  <a:ext cx="7808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1260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rial"/>
                    </a:rPr>
                    <a:t>odula</a:t>
                  </a:r>
                  <a:endParaRPr b="0" lang="en-US" sz="2400" spc="1" strike="noStrike">
                    <a:ln w="1260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74" name=""/>
              <p:cNvSpPr/>
              <p:nvPr/>
            </p:nvSpPr>
            <p:spPr>
              <a:xfrm>
                <a:off x="3596760" y="3943440"/>
                <a:ext cx="1594800" cy="83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</a:rPr>
                  <a:t>CM3-ID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I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ntegrated </a:t>
                </a: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D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evelopment</a:t>
                </a:r>
                <a:br>
                  <a:rPr sz="900"/>
                </a:b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E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nviron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Powered by Modula-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" name=""/>
          <p:cNvSpPr/>
          <p:nvPr/>
        </p:nvSpPr>
        <p:spPr>
          <a:xfrm>
            <a:off x="767160" y="5054760"/>
            <a:ext cx="7611480" cy="39672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53966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M3-IDE: 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C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ritical Mass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M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odula-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3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I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tegrated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D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velopment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E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976560" y="2486160"/>
            <a:ext cx="1171800" cy="18666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031640" y="2792520"/>
            <a:ext cx="105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95600" y="2143080"/>
            <a:ext cx="2133720" cy="18288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3494880" y="2895480"/>
            <a:ext cx="2133720" cy="1828800"/>
          </a:xfrm>
          <a:custGeom>
            <a:avLst/>
            <a:gdLst>
              <a:gd name="textAreaLeft" fmla="*/ -360 w 2133720"/>
              <a:gd name="textAreaRight" fmla="*/ 2133720 w 2133720"/>
              <a:gd name="textAreaTop" fmla="*/ 360 h 1828800"/>
              <a:gd name="textAreaBottom" fmla="*/ 182952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3:41:33Z</dcterms:created>
  <dc:creator>Authorized User</dc:creator>
  <dc:description/>
  <dc:language>en-US</dc:language>
  <cp:lastModifiedBy>Randy Coleburn</cp:lastModifiedBy>
  <dcterms:modified xsi:type="dcterms:W3CDTF">2008-01-24T18:36:03Z</dcterms:modified>
  <cp:revision>16</cp:revision>
  <dc:subject/>
  <dc:title>Slide 1</dc:title>
</cp:coreProperties>
</file>